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3BD-EED8-4810-9C17-25FE05C2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15B-6564-4AE8-878C-0E0522B1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1F0-ACB9-44B6-8E26-0C8BAA65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71D-A7CE-4B64-B4DB-86BC7868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9A5-9643-4A93-A648-A4A62AEC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839-AD17-4C84-9F38-86F66D72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988-6C61-4069-8352-8FE3323D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2BD-FC03-42D7-B2D6-A0B30DFA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964-9698-44A8-909C-4497A04E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52D-1DCB-493F-8DDD-C3EF646E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A93-C2EA-405D-89F2-DF3F1C94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1BD-FE29-44FD-A5B1-A446B2C2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egoe UI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ECB7C6-D31B-494F-B9BC-7F4D44F9281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égion Aquit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sable … au sili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920" y="5943600"/>
            <a:ext cx="902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tissement : ce diaporama ne constitue qu’un exercice d’utilisation d’un logiciel de présent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informations qu’il contient sont très subjectives, voir fantaisi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départemen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dogne (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onde (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es (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-et-Garonne (4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énées Atlantiques (6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qui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ques, béarnais, gascons, landais, périgourdains, girondins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 2 millions de person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r avec la côte océane (plages) et la bassin d’Arcachon (plais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ontagne avec la partie atlantique des Pyré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ampagne avec les grands espaces landais ou les vallons garon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ille avec le secteur sauvegardé du vieux Bord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éronautique et services, autour de grands centres urbains comme le BAB, Bordeaux ou P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s du tour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s vitic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s forestiè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seig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[Nouvelle] Université de Bord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ieurs écoles d’ingéni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écial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é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è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i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ez-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ez-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6:44:55Z</dcterms:created>
  <dc:creator>Benoît</dc:creator>
  <dc:description/>
  <dc:language>en-US</dc:language>
  <cp:lastModifiedBy>Benoît</cp:lastModifiedBy>
  <dcterms:modified xsi:type="dcterms:W3CDTF">2003-12-02T11:12:25Z</dcterms:modified>
  <cp:revision>3</cp:revision>
  <dc:subject/>
  <dc:title>La région Aquitaine</dc:title>
</cp:coreProperties>
</file>